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FC12-F808-43F0-BE9F-5EEE34FCE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42B4-8CD0-4CA3-8F87-D69A44F1F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nature.com/vishal/2010/05/first_quiz_-_genome_special_quiz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reat online quiz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D464-01B3-4B2F-AEC8-54E28AC6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1C82-7011-46F5-84AE-EDE7A2AC9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ybg.org/science/dna-bank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C3C1-E1DD-4D60-803A-2A9DBB97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is not from here, but information about the National DNA Data Bank can be found 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rcmp-grc.gc.ca/nddb-bndg/index-accueil-en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ED1-9789-41E5-954A-22F0B76BB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news/060301_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EB6F-E0C0-448B-8953-DE9AEFA99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8D6D-F0CC-4A60-817C-D6D5B1AB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csf.edu/news/2013/02/13535/gene-invaders-are-stymied-cells-genome-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4B0E-40EC-4EDE-BEE2-577A4239A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.cse.ohio-state.edu/MicroarrayDesign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A7E1-98A9-4CD9-84C8-AE10C5E12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ultivu.prnewswire.com/mnr/procterandgamble/3553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38B0-D0A5-43C1-BF6F-6902AE62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msu.edu/~vanalst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E450-8B7F-432B-A10F-71249C61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ms.harvard.edu/news/puzzling-out-variability-human-genome-7-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179-3551-4CA6-A562-05358A29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2557-7187-4B2B-A59C-4668A303F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knowledge/library/comparative-genomics-132394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8A0-2F8E-4926-9EFD-E657AAA9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74C-A715-4DFF-830E-C92BC0AF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20C-314A-4AB3-B1A5-9BF695A5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22B-29AB-4830-9FB9-328BA4B9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425-8611-499A-B070-93D00534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57A-62A6-4441-B43C-9B92E9ED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565-CEC0-4353-AE9C-35F4DA4B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ED8-3A76-41F6-980C-60B0BA6B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815-7C5C-4696-A9DE-0A31DA59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319-AFC8-4065-A772-11BD316B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7DE-78AE-44B1-99F3-1363A06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0D0-01EB-4F03-A8EC-A41C101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C7D7-7AF8-48F9-B533-F92C3C77B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&amp; Gen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5120" y="54097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 &amp; 6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Gen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dentify differences in genes that cause disorders (cystic fibrosis, breast canc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are genomes of different organism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om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tudy of what ge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ir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B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DNA sequences from various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agriculture, conser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DNAaliquots"/>
          <p:cNvPicPr/>
          <p:nvPr/>
        </p:nvPicPr>
        <p:blipFill>
          <a:blip r:embed="rId1"/>
          <a:stretch/>
        </p:blipFill>
        <p:spPr>
          <a:xfrm>
            <a:off x="4267080" y="238140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DNA Data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DNA sequence of thousands of convicted cri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TA521ST_RCMP_MapleLeaf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Finger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of bands on a gel that is unique to each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nafingerprints"/>
          <p:cNvPicPr/>
          <p:nvPr/>
        </p:nvPicPr>
        <p:blipFill>
          <a:blip r:embed="rId1"/>
          <a:stretch/>
        </p:blipFill>
        <p:spPr>
          <a:xfrm>
            <a:off x="4552920" y="1676520"/>
            <a:ext cx="4000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s of DNA that move within or betwee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by Barbara McClintock in the 1940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ing Gene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29" descr="transposon_mobilization_1_1"/>
          <p:cNvPicPr/>
          <p:nvPr/>
        </p:nvPicPr>
        <p:blipFill>
          <a:blip r:embed="rId1"/>
          <a:stretch/>
        </p:blipFill>
        <p:spPr>
          <a:xfrm>
            <a:off x="685800" y="1989000"/>
            <a:ext cx="77724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groups of cells (e.g., normal vs. cancer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which genes are mut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microarray"/>
          <p:cNvPicPr/>
          <p:nvPr/>
        </p:nvPicPr>
        <p:blipFill>
          <a:blip r:embed="rId1"/>
          <a:stretch/>
        </p:blipFill>
        <p:spPr>
          <a:xfrm>
            <a:off x="4343400" y="17146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35537-hi-Gene_Chip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540972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om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na"/>
          <p:cNvPicPr/>
          <p:nvPr/>
        </p:nvPicPr>
        <p:blipFill>
          <a:blip r:embed="rId1"/>
          <a:stretch/>
        </p:blipFill>
        <p:spPr>
          <a:xfrm>
            <a:off x="304920" y="611280"/>
            <a:ext cx="83818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nome Project (HG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1990 until 2000+ to sequence the 3 billion base pairs of hum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D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up less than 2%…the res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oding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Gen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ouchman_table1_ksm"/>
          <p:cNvPicPr/>
          <p:nvPr/>
        </p:nvPicPr>
        <p:blipFill>
          <a:blip r:embed="rId1"/>
          <a:stretch/>
        </p:blipFill>
        <p:spPr>
          <a:xfrm>
            <a:off x="685800" y="2212920"/>
            <a:ext cx="7772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9:57:33Z</dcterms:created>
  <dc:creator>rubina khan</dc:creator>
  <dc:description/>
  <dc:language>en-US</dc:language>
  <cp:lastModifiedBy>rubina khan</cp:lastModifiedBy>
  <dcterms:modified xsi:type="dcterms:W3CDTF">2015-12-03T14:47:08Z</dcterms:modified>
  <cp:revision>52</cp:revision>
  <dc:subject/>
  <dc:title>PowerPoint Presentation</dc:title>
</cp:coreProperties>
</file>